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chimes.wav" ContentType="audio/x-wav"/>
  <Override PartName="/ppt/media/greatjob2.wav" ContentType="audio/x-wav"/>
  <Override PartName="/ppt/media/tryagian2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D5C-C84C-46F4-B357-4ED8DD3C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02D-E34B-495E-A3B6-BC30A9CF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5E6-49A2-48DE-8B5D-82A23179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412-0B19-4541-B96E-F5254784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F3E-424D-4694-A664-A156FC3A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FA6-F9C2-4A67-A683-68C31FFC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2E0-5866-4D1A-B2D3-429F0CD7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B2C-FE12-4614-8733-50C370B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6E2-860E-4328-829A-E4743E27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4BD-7D4D-4045-85D0-1A2BC0FB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0A3-6923-49A9-B7DC-D624C80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9E4-E123-47E4-8760-4A033093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3048-94FF-4F07-9F97-695EF44AE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.png"/><Relationship Id="rId22" Type="http://schemas.openxmlformats.org/officeDocument/2006/relationships/audio" Target="../media/chimes.wav"/><Relationship Id="rId23" Type="http://schemas.openxmlformats.org/officeDocument/2006/relationships/audio" Target="../media/greatjob2.wav"/><Relationship Id="rId24" Type="http://schemas.openxmlformats.org/officeDocument/2006/relationships/audio" Target="../media/tryagian2.wav"/><Relationship Id="rId25" Type="http://schemas.openxmlformats.org/officeDocument/2006/relationships/audio" Target="../media/tryagian2.wav"/><Relationship Id="rId26" Type="http://schemas.openxmlformats.org/officeDocument/2006/relationships/audio" Target="../media/tryagian2.wav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.png"/><Relationship Id="rId22" Type="http://schemas.openxmlformats.org/officeDocument/2006/relationships/audio" Target="../media/chimes.wav"/><Relationship Id="rId23" Type="http://schemas.openxmlformats.org/officeDocument/2006/relationships/audio" Target="../media/greatjob2.wav"/><Relationship Id="rId24" Type="http://schemas.openxmlformats.org/officeDocument/2006/relationships/audio" Target="../media/tryagian2.wav"/><Relationship Id="rId25" Type="http://schemas.openxmlformats.org/officeDocument/2006/relationships/audio" Target="../media/tryagian2.wav"/><Relationship Id="rId26" Type="http://schemas.openxmlformats.org/officeDocument/2006/relationships/audio" Target="../media/tryagian2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.png"/><Relationship Id="rId22" Type="http://schemas.openxmlformats.org/officeDocument/2006/relationships/audio" Target="../media/chimes.wav"/><Relationship Id="rId23" Type="http://schemas.openxmlformats.org/officeDocument/2006/relationships/audio" Target="../media/greatjob2.wav"/><Relationship Id="rId24" Type="http://schemas.openxmlformats.org/officeDocument/2006/relationships/audio" Target="../media/tryagian2.wav"/><Relationship Id="rId25" Type="http://schemas.openxmlformats.org/officeDocument/2006/relationships/audio" Target="../media/tryagian2.wav"/><Relationship Id="rId26" Type="http://schemas.openxmlformats.org/officeDocument/2006/relationships/audio" Target="../media/tryagian2.wav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.png"/><Relationship Id="rId22" Type="http://schemas.openxmlformats.org/officeDocument/2006/relationships/audio" Target="../media/chimes.wav"/><Relationship Id="rId23" Type="http://schemas.openxmlformats.org/officeDocument/2006/relationships/audio" Target="../media/greatjob2.wav"/><Relationship Id="rId24" Type="http://schemas.openxmlformats.org/officeDocument/2006/relationships/audio" Target="../media/tryagian2.wav"/><Relationship Id="rId25" Type="http://schemas.openxmlformats.org/officeDocument/2006/relationships/audio" Target="../media/tryagian2.wav"/><Relationship Id="rId26" Type="http://schemas.openxmlformats.org/officeDocument/2006/relationships/audio" Target="../media/tryagian2.wav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.png"/><Relationship Id="rId22" Type="http://schemas.openxmlformats.org/officeDocument/2006/relationships/audio" Target="../media/chimes.wav"/><Relationship Id="rId23" Type="http://schemas.openxmlformats.org/officeDocument/2006/relationships/audio" Target="../media/greatjob2.wav"/><Relationship Id="rId24" Type="http://schemas.openxmlformats.org/officeDocument/2006/relationships/audio" Target="../media/tryagian2.wav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.png"/><Relationship Id="rId22" Type="http://schemas.openxmlformats.org/officeDocument/2006/relationships/audio" Target="../media/chimes.wav"/><Relationship Id="rId23" Type="http://schemas.openxmlformats.org/officeDocument/2006/relationships/audio" Target="../media/greatjob2.wav"/><Relationship Id="rId24" Type="http://schemas.openxmlformats.org/officeDocument/2006/relationships/audio" Target="../media/tryagian2.wav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Do you Dare Challeng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Great, All Knowing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Robot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Robi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438280" y="127080"/>
            <a:ext cx="4503960" cy="6502320"/>
            <a:chOff x="2438280" y="127080"/>
            <a:chExt cx="4503960" cy="650232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438280" y="127080"/>
              <a:ext cx="4503960" cy="65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795840" y="3276720"/>
              <a:ext cx="1828800" cy="16761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809880" y="340056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bie Know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re Than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1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6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100"/>
                            </p:stCondLst>
                            <p:childTnLst>
                              <p:par>
                                <p:cTn id="39" nodeType="afterEffect" fill="hold" presetClass="exit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600"/>
                            </p:stCondLst>
                            <p:childTnLst>
                              <p:par>
                                <p:cTn id="4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562720" y="990720"/>
            <a:ext cx="236196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990720"/>
            <a:ext cx="236232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57240" y="4038480"/>
          <a:ext cx="1713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38480"/>
                    <a:ext cx="17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143000" y="1176480"/>
            <a:ext cx="6781680" cy="5681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3022560"/>
          <a:ext cx="2286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225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857760" y="0"/>
            <a:ext cx="129528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7923240" y="1206360"/>
          <a:ext cx="113832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3240" y="1206360"/>
                    <a:ext cx="11383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29160" y="990720"/>
            <a:ext cx="18288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160" y="1219320"/>
          <a:ext cx="11286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" y="1219320"/>
                    <a:ext cx="1128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924680" y="3048120"/>
          <a:ext cx="228600" cy="101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04812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7924680" y="4038480"/>
          <a:ext cx="18900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4038480"/>
                    <a:ext cx="189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924680" y="4851360"/>
          <a:ext cx="2286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4680" y="48513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924680" y="5943600"/>
          <a:ext cx="20664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943600"/>
                    <a:ext cx="20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914400" y="4800600"/>
          <a:ext cx="228600" cy="1015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480060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914400" y="5867280"/>
          <a:ext cx="228600" cy="1016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867280"/>
                    <a:ext cx="228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295280" y="1295280"/>
            <a:ext cx="6477120" cy="1371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000000"/>
              </a:gs>
              <a:gs pos="100000">
                <a:srgbClr val="5f5f5f"/>
              </a:gs>
            </a:gsLst>
            <a:lin ang="5400000"/>
          </a:gra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The name of the tool that scienctists use to classify unknown organisms by using two cho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7432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Which Answer Below is Correct? - Robie Know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71800" y="51055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66760" y="57150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44197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7339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7150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44197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51055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omial nomencl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7339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chotomou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656748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 rot="10800000">
            <a:off x="129492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17960" y="3048120"/>
            <a:ext cx="838080" cy="60948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7828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9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evt="end">
                                        <p:tn val="91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evt="end">
                                        <p:tn val="99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evt="end">
                                        <p:tn val="135"/>
                                      </p:cond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9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1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evt="end">
                                        <p:tn val="159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3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reatjob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562720" y="990720"/>
            <a:ext cx="236196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990720"/>
            <a:ext cx="236232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57240" y="4038480"/>
          <a:ext cx="1713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38480"/>
                    <a:ext cx="17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143000" y="1176480"/>
            <a:ext cx="6781680" cy="5681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3022560"/>
          <a:ext cx="2286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225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857760" y="0"/>
            <a:ext cx="129528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7923240" y="1206360"/>
          <a:ext cx="113832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3240" y="1206360"/>
                    <a:ext cx="11383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629160" y="990720"/>
            <a:ext cx="18288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160" y="1219320"/>
          <a:ext cx="11286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" y="1219320"/>
                    <a:ext cx="1128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924680" y="3048120"/>
          <a:ext cx="228600" cy="101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04812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924680" y="4038480"/>
          <a:ext cx="18900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4038480"/>
                    <a:ext cx="189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7924680" y="4851360"/>
          <a:ext cx="2286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4680" y="48513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924680" y="5943600"/>
          <a:ext cx="20664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943600"/>
                    <a:ext cx="20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914400" y="4800600"/>
          <a:ext cx="228600" cy="1015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480060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914400" y="5867280"/>
          <a:ext cx="228600" cy="1016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867280"/>
                    <a:ext cx="228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295280" y="1295280"/>
            <a:ext cx="6477120" cy="1371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000000"/>
              </a:gs>
              <a:gs pos="100000">
                <a:srgbClr val="5f5f5f"/>
              </a:gs>
            </a:gsLst>
            <a:lin ang="5400000"/>
          </a:gra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The process in which scientists arrange organisms into groups based on similarities is called 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Which Answer Below is Correct? - Robie Know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71800" y="51055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66760" y="57150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38862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49568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57150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38862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1055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449568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656748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 rot="10800000">
            <a:off x="129492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17960" y="3048120"/>
            <a:ext cx="838080" cy="60948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7828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evt="end">
                                        <p:tn val="206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6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evt="end">
                                        <p:tn val="242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6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evt="end">
                                        <p:tn val="250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evt="end">
                                        <p:tn val="254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evt="end">
                                        <p:tn val="262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evt="end">
                                        <p:tn val="266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evt="end">
                                        <p:tn val="270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evt="end">
                                        <p:tn val="286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evt="end">
                                        <p:tn val="294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8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7000"/>
                            </p:stCondLst>
                            <p:childTnLst>
                              <p:par>
                                <p:cTn id="3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evt="end">
                                        <p:tn val="306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80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10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3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reatjob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562720" y="990720"/>
            <a:ext cx="236196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990720"/>
            <a:ext cx="236232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57240" y="4038480"/>
          <a:ext cx="1713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38480"/>
                    <a:ext cx="17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143000" y="1176480"/>
            <a:ext cx="6781680" cy="5681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14400" y="3022560"/>
          <a:ext cx="2286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225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857760" y="0"/>
            <a:ext cx="129528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7923240" y="1206360"/>
          <a:ext cx="113832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3240" y="1206360"/>
                    <a:ext cx="11383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629160" y="990720"/>
            <a:ext cx="18288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" y="1219320"/>
          <a:ext cx="11286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" y="1219320"/>
                    <a:ext cx="1128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924680" y="3048120"/>
          <a:ext cx="228600" cy="101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04812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924680" y="4038480"/>
          <a:ext cx="18900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4038480"/>
                    <a:ext cx="189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924680" y="4851360"/>
          <a:ext cx="2286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4680" y="48513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7924680" y="5943600"/>
          <a:ext cx="20664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943600"/>
                    <a:ext cx="20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914400" y="4800600"/>
          <a:ext cx="228600" cy="1015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480060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914400" y="5867280"/>
          <a:ext cx="228600" cy="1016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867280"/>
                    <a:ext cx="228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95280" y="1295280"/>
            <a:ext cx="6477120" cy="1371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000000"/>
              </a:gs>
              <a:gs pos="100000">
                <a:srgbClr val="5f5f5f"/>
              </a:gs>
            </a:gsLst>
            <a:lin ang="5400000"/>
          </a:gra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What is the science of arranging organisms into groups and giving them na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27432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Which Answer Below is Correct? - Robie Know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71800" y="449568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66760" y="57150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38862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51055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57150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8862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49568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51055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656748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 rot="10800000">
            <a:off x="129492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17960" y="3048120"/>
            <a:ext cx="838080" cy="60948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7828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evt="end">
                                        <p:tn val="345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evt="end">
                                        <p:tn val="349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3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evt="end">
                                        <p:tn val="357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evt="end">
                                        <p:tn val="361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evt="end">
                                        <p:tn val="365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9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000"/>
                            </p:stCondLst>
                            <p:childTnLst>
                              <p:par>
                                <p:cTn id="3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5" dur="1" fill="hold">
                                    <p:stCondLst>
                                      <p:cond evt="end">
                                        <p:tn val="373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9000"/>
                            </p:stCondLst>
                            <p:childTnLst>
                              <p:par>
                                <p:cTn id="3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3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evt="end">
                                        <p:tn val="385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1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evt="end">
                                        <p:tn val="393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7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5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evt="end">
                                        <p:tn val="409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evt="end">
                                        <p:tn val="413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evt="end">
                                        <p:tn val="417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evt="end">
                                        <p:tn val="421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evt="end">
                                        <p:tn val="425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evt="end">
                                        <p:tn val="429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evt="end">
                                        <p:tn val="433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evt="end">
                                        <p:tn val="437"/>
                                      </p:cond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evt="end">
                                        <p:tn val="441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5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6000"/>
                            </p:stCondLst>
                            <p:childTnLst>
                              <p:par>
                                <p:cTn id="4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evt="end">
                                        <p:tn val="449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8000"/>
                            </p:stCondLst>
                            <p:childTnLst>
                              <p:par>
                                <p:cTn id="4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evt="end">
                                        <p:tn val="457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9000"/>
                            </p:stCondLst>
                            <p:childTnLst>
                              <p:par>
                                <p:cTn id="4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3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reatjob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562720" y="990720"/>
            <a:ext cx="236196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990720"/>
            <a:ext cx="236232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957240" y="4038480"/>
          <a:ext cx="1713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38480"/>
                    <a:ext cx="17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143000" y="1176480"/>
            <a:ext cx="6781680" cy="5681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14400" y="3022560"/>
          <a:ext cx="2286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225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3857760" y="0"/>
            <a:ext cx="129528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7923240" y="1206360"/>
          <a:ext cx="113832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3240" y="1206360"/>
                    <a:ext cx="11383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629160" y="990720"/>
            <a:ext cx="18288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1160" y="1219320"/>
          <a:ext cx="11286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" y="1219320"/>
                    <a:ext cx="1128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7924680" y="3048120"/>
          <a:ext cx="228600" cy="101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04812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7924680" y="4038480"/>
          <a:ext cx="18900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4038480"/>
                    <a:ext cx="189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7924680" y="4851360"/>
          <a:ext cx="2286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4680" y="48513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7924680" y="5943600"/>
          <a:ext cx="20664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943600"/>
                    <a:ext cx="20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914400" y="4800600"/>
          <a:ext cx="228600" cy="1015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480060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914400" y="5867280"/>
          <a:ext cx="228600" cy="1016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867280"/>
                    <a:ext cx="228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295280" y="1295280"/>
            <a:ext cx="6477120" cy="1371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000000"/>
              </a:gs>
              <a:gs pos="100000">
                <a:srgbClr val="5f5f5f"/>
              </a:gs>
            </a:gsLst>
            <a:lin ang="5400000"/>
          </a:gra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What is the type of evidence that may include characteristics such as color, size, and wei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27432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Which Answer Below is Correct? - Robie Know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71800" y="449568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66760" y="51055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8862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57150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51055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38862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449568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52480" y="57150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656748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 rot="10800000">
            <a:off x="129492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17960" y="3048120"/>
            <a:ext cx="838080" cy="60948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7828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" dur="1" fill="hold">
                                    <p:stCondLst>
                                      <p:cond evt="end">
                                        <p:tn val="492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evt="end">
                                        <p:tn val="496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evt="end">
                                        <p:tn val="500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evt="end">
                                        <p:tn val="504"/>
                                      </p:cond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evt="end">
                                        <p:tn val="512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evt="end">
                                        <p:tn val="516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evt="end">
                                        <p:tn val="520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8000"/>
                            </p:stCondLst>
                            <p:childTnLst>
                              <p:par>
                                <p:cTn id="5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4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000"/>
                            </p:stCondLst>
                            <p:childTnLst>
                              <p:par>
                                <p:cTn id="5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4" dur="1" fill="hold">
                                    <p:stCondLst>
                                      <p:cond evt="end">
                                        <p:tn val="532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evt="end">
                                        <p:tn val="536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evt="end">
                                        <p:tn val="540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" dur="1" fill="hold">
                                    <p:stCondLst>
                                      <p:cond evt="end">
                                        <p:tn val="544"/>
                                      </p:cond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evt="end">
                                        <p:tn val="548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4" dur="1" fill="hold">
                                    <p:stCondLst>
                                      <p:cond evt="end">
                                        <p:tn val="552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evt="end">
                                        <p:tn val="556"/>
                                      </p:cond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evt="end">
                                        <p:tn val="560"/>
                                      </p:cond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6" dur="1" fill="hold">
                                    <p:stCondLst>
                                      <p:cond evt="end">
                                        <p:tn val="564"/>
                                      </p:cond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evt="end">
                                        <p:tn val="568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" dur="1" fill="hold">
                                    <p:stCondLst>
                                      <p:cond evt="end">
                                        <p:tn val="572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evt="end">
                                        <p:tn val="576"/>
                                      </p:cond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evt="end">
                                        <p:tn val="580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evt="end">
                                        <p:tn val="584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4000"/>
                            </p:stCondLst>
                            <p:childTnLst>
                              <p:par>
                                <p:cTn id="5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0" dur="1" fill="hold">
                                    <p:stCondLst>
                                      <p:cond evt="end">
                                        <p:tn val="588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evt="end">
                                        <p:tn val="592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evt="end">
                                        <p:tn val="596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6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2" dur="1" fill="hold">
                                    <p:stCondLst>
                                      <p:cond evt="end">
                                        <p:tn val="600"/>
                                      </p:cond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6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6" dur="1" fill="hold">
                                    <p:stCondLst>
                                      <p:cond evt="end">
                                        <p:tn val="604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6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evt="end">
                                        <p:tn val="608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reatjob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562720" y="990720"/>
            <a:ext cx="236196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990720"/>
            <a:ext cx="236232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57240" y="4038480"/>
          <a:ext cx="1713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38480"/>
                    <a:ext cx="17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1143000" y="1176480"/>
            <a:ext cx="6781680" cy="5681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14400" y="3022560"/>
          <a:ext cx="2286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225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3857760" y="0"/>
            <a:ext cx="129528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"/>
          <p:cNvGraphicFramePr/>
          <p:nvPr/>
        </p:nvGraphicFramePr>
        <p:xfrm>
          <a:off x="7923240" y="1206360"/>
          <a:ext cx="113832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3240" y="1206360"/>
                    <a:ext cx="11383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3629160" y="990720"/>
            <a:ext cx="18288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1160" y="1219320"/>
          <a:ext cx="11286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" y="1219320"/>
                    <a:ext cx="1128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7924680" y="3048120"/>
          <a:ext cx="228600" cy="101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04812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7924680" y="4038480"/>
          <a:ext cx="18900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4038480"/>
                    <a:ext cx="189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7924680" y="4851360"/>
          <a:ext cx="2286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4680" y="48513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7924680" y="5943600"/>
          <a:ext cx="20664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943600"/>
                    <a:ext cx="20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914400" y="4800600"/>
          <a:ext cx="228600" cy="1015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480060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914400" y="5867280"/>
          <a:ext cx="228600" cy="1016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867280"/>
                    <a:ext cx="228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95280" y="1295280"/>
            <a:ext cx="6477120" cy="1371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000000"/>
              </a:gs>
              <a:gs pos="100000">
                <a:srgbClr val="5f5f5f"/>
              </a:gs>
            </a:gsLst>
            <a:lin ang="5400000"/>
          </a:gra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Scientist compare DNA sequences of two organisms for similarities to get genetic evidence to prove the organisms are closely 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27432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Which Answer Below is Correct? - Robie Know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44197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37339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52480" y="44197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37339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656748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 rot="10800000">
            <a:off x="129492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17960" y="3048120"/>
            <a:ext cx="838080" cy="60948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7828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1" dur="1" fill="hold">
                                    <p:stCondLst>
                                      <p:cond evt="end">
                                        <p:tn val="639"/>
                                      </p:cond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evt="end">
                                        <p:tn val="643"/>
                                      </p:cond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evt="end">
                                        <p:tn val="647"/>
                                      </p:cond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3" dur="1" fill="hold">
                                    <p:stCondLst>
                                      <p:cond evt="end">
                                        <p:tn val="651"/>
                                      </p:cond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evt="end">
                                        <p:tn val="655"/>
                                      </p:cond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0"/>
                            </p:stCondLst>
                            <p:childTnLst>
                              <p:par>
                                <p:cTn id="6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evt="end">
                                        <p:tn val="659"/>
                                      </p:cond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evt="end">
                                        <p:tn val="663"/>
                                      </p:cond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9" dur="1" fill="hold">
                                    <p:stCondLst>
                                      <p:cond evt="end">
                                        <p:tn val="667"/>
                                      </p:cond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8000"/>
                            </p:stCondLst>
                            <p:childTnLst>
                              <p:par>
                                <p:cTn id="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evt="end">
                                        <p:tn val="671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9000"/>
                            </p:stCondLst>
                            <p:childTnLst>
                              <p:par>
                                <p:cTn id="6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evt="end">
                                        <p:tn val="675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" dur="1" fill="hold">
                                    <p:stCondLst>
                                      <p:cond evt="end">
                                        <p:tn val="679"/>
                                      </p:cond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evt="end">
                                        <p:tn val="683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9" dur="1" fill="hold">
                                    <p:stCondLst>
                                      <p:cond evt="end">
                                        <p:tn val="687"/>
                                      </p:cond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3" dur="1" fill="hold">
                                    <p:stCondLst>
                                      <p:cond evt="end">
                                        <p:tn val="691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evt="end">
                                        <p:tn val="695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evt="end">
                                        <p:tn val="699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evt="end">
                                        <p:tn val="703"/>
                                      </p:cond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evt="end">
                                        <p:tn val="707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3" dur="1" fill="hold">
                                    <p:stCondLst>
                                      <p:cond evt="end">
                                        <p:tn val="711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evt="end">
                                        <p:tn val="715"/>
                                      </p:cond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evt="end">
                                        <p:tn val="719"/>
                                      </p:cond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7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5" dur="1" fill="hold">
                                    <p:stCondLst>
                                      <p:cond evt="end">
                                        <p:tn val="723"/>
                                      </p:cond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evt="end">
                                        <p:tn val="727"/>
                                      </p:cond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3000"/>
                            </p:stCondLst>
                            <p:childTnLst>
                              <p:par>
                                <p:cTn id="7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3" dur="1" fill="hold">
                                    <p:stCondLst>
                                      <p:cond evt="end">
                                        <p:tn val="731"/>
                                      </p:cond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4000"/>
                            </p:stCondLst>
                            <p:childTnLst>
                              <p:par>
                                <p:cTn id="7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7" dur="1" fill="hold">
                                    <p:stCondLst>
                                      <p:cond evt="end">
                                        <p:tn val="735"/>
                                      </p:cond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5000"/>
                            </p:stCondLst>
                            <p:childTnLst>
                              <p:par>
                                <p:cTn id="7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1" dur="1" fill="hold">
                                    <p:stCondLst>
                                      <p:cond evt="end">
                                        <p:tn val="739"/>
                                      </p:cond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6000"/>
                            </p:stCondLst>
                            <p:childTnLst>
                              <p:par>
                                <p:cTn id="7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5" dur="1" fill="hold">
                                    <p:stCondLst>
                                      <p:cond evt="end">
                                        <p:tn val="743"/>
                                      </p:cond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7000"/>
                            </p:stCondLst>
                            <p:childTnLst>
                              <p:par>
                                <p:cTn id="7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9" dur="1" fill="hold">
                                    <p:stCondLst>
                                      <p:cond evt="end">
                                        <p:tn val="747"/>
                                      </p:cond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8000"/>
                            </p:stCondLst>
                            <p:childTnLst>
                              <p:par>
                                <p:cTn id="7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3" dur="1" fill="hold">
                                    <p:stCondLst>
                                      <p:cond evt="end">
                                        <p:tn val="751"/>
                                      </p:cond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9000"/>
                            </p:stCondLst>
                            <p:childTnLst>
                              <p:par>
                                <p:cTn id="7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evt="end">
                                        <p:tn val="755"/>
                                      </p:cond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reatjob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562720" y="990720"/>
            <a:ext cx="236196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990720"/>
            <a:ext cx="236232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57240" y="4038480"/>
          <a:ext cx="1713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38480"/>
                    <a:ext cx="17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1143000" y="1176480"/>
            <a:ext cx="6781680" cy="5681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14400" y="3022560"/>
          <a:ext cx="2286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225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3857760" y="0"/>
            <a:ext cx="129528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"/>
          <p:cNvGraphicFramePr/>
          <p:nvPr/>
        </p:nvGraphicFramePr>
        <p:xfrm>
          <a:off x="7923240" y="1206360"/>
          <a:ext cx="113832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3240" y="1206360"/>
                    <a:ext cx="11383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629160" y="990720"/>
            <a:ext cx="18288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1160" y="1219320"/>
          <a:ext cx="11286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" y="1219320"/>
                    <a:ext cx="1128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7924680" y="3048120"/>
          <a:ext cx="228600" cy="101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04812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7924680" y="4038480"/>
          <a:ext cx="18900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4038480"/>
                    <a:ext cx="189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7924680" y="4851360"/>
          <a:ext cx="2286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4680" y="48513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7924680" y="5943600"/>
          <a:ext cx="20664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943600"/>
                    <a:ext cx="20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914400" y="4800600"/>
          <a:ext cx="228600" cy="1015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480060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914400" y="5867280"/>
          <a:ext cx="228600" cy="1016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867280"/>
                    <a:ext cx="228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1295280" y="1295280"/>
            <a:ext cx="6477120" cy="1371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000000"/>
              </a:gs>
              <a:gs pos="100000">
                <a:srgbClr val="5f5f5f"/>
              </a:gs>
            </a:gsLst>
            <a:lin ang="5400000"/>
          </a:gra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Taxonomy is a random way that scientists travel through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81080" y="27432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Which Answer Below is Correct? - Robie Know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38862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449568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52480" y="38862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52480" y="449568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656748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 rot="10800000">
            <a:off x="129492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17960" y="3048120"/>
            <a:ext cx="838080" cy="60948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7828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evt="end">
                                        <p:tn val="774"/>
                                      </p:cond>
                                    </p:stCondLst>
                                  </p:cTn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" dur="1" fill="hold">
                                    <p:stCondLst>
                                      <p:cond evt="end">
                                        <p:tn val="778"/>
                                      </p:cond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4" dur="1" fill="hold">
                                    <p:stCondLst>
                                      <p:cond evt="end">
                                        <p:tn val="782"/>
                                      </p:cond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8" dur="1" fill="hold">
                                    <p:stCondLst>
                                      <p:cond evt="end">
                                        <p:tn val="786"/>
                                      </p:cond>
                                    </p:stCondLst>
                                  </p:cTn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evt="end">
                                        <p:tn val="790"/>
                                      </p:cond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0"/>
                            </p:stCondLst>
                            <p:childTnLst>
                              <p:par>
                                <p:cTn id="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6" dur="1" fill="hold">
                                    <p:stCondLst>
                                      <p:cond evt="end">
                                        <p:tn val="794"/>
                                      </p:cond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6000"/>
                            </p:stCondLst>
                            <p:childTnLst>
                              <p:par>
                                <p:cTn id="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evt="end">
                                        <p:tn val="798"/>
                                      </p:cond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7000"/>
                            </p:stCondLst>
                            <p:childTnLst>
                              <p:par>
                                <p:cTn id="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4" dur="1" fill="hold">
                                    <p:stCondLst>
                                      <p:cond evt="end">
                                        <p:tn val="802"/>
                                      </p:cond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8000"/>
                            </p:stCondLst>
                            <p:childTnLst>
                              <p:par>
                                <p:cTn id="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8" dur="1" fill="hold">
                                    <p:stCondLst>
                                      <p:cond evt="end">
                                        <p:tn val="806"/>
                                      </p:cond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9000"/>
                            </p:stCondLst>
                            <p:childTnLst>
                              <p:par>
                                <p:cTn id="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evt="end">
                                        <p:tn val="810"/>
                                      </p:cond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" dur="1" fill="hold">
                                    <p:stCondLst>
                                      <p:cond evt="end">
                                        <p:tn val="814"/>
                                      </p:cond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0" dur="1" fill="hold">
                                    <p:stCondLst>
                                      <p:cond evt="end">
                                        <p:tn val="818"/>
                                      </p:cond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4" dur="1" fill="hold">
                                    <p:stCondLst>
                                      <p:cond evt="end">
                                        <p:tn val="822"/>
                                      </p:cond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evt="end">
                                        <p:tn val="826"/>
                                      </p:cond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" dur="1" fill="hold">
                                    <p:stCondLst>
                                      <p:cond evt="end">
                                        <p:tn val="83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evt="end">
                                        <p:tn val="834"/>
                                      </p:cond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" dur="1" fill="hold">
                                    <p:stCondLst>
                                      <p:cond evt="end">
                                        <p:tn val="838"/>
                                      </p:cond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4" dur="1" fill="hold">
                                    <p:stCondLst>
                                      <p:cond evt="end">
                                        <p:tn val="842"/>
                                      </p:cond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evt="end">
                                        <p:tn val="846"/>
                                      </p:cond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9000"/>
                            </p:stCondLst>
                            <p:childTnLst>
                              <p:par>
                                <p:cTn id="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evt="end">
                                        <p:tn val="850"/>
                                      </p:cond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evt="end">
                                        <p:tn val="854"/>
                                      </p:cond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0" dur="1" fill="hold">
                                    <p:stCondLst>
                                      <p:cond evt="end">
                                        <p:tn val="858"/>
                                      </p:cond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4" dur="1" fill="hold">
                                    <p:stCondLst>
                                      <p:cond evt="end">
                                        <p:tn val="862"/>
                                      </p:cond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evt="end">
                                        <p:tn val="866"/>
                                      </p:cond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" dur="1" fill="hold">
                                    <p:stCondLst>
                                      <p:cond evt="end">
                                        <p:tn val="870"/>
                                      </p:cond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0"/>
                            </p:stCondLst>
                            <p:childTnLst>
                              <p:par>
                                <p:cTn id="8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6" dur="1" fill="hold">
                                    <p:stCondLst>
                                      <p:cond evt="end">
                                        <p:tn val="874"/>
                                      </p:cond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6000"/>
                            </p:stCondLst>
                            <p:childTnLst>
                              <p:par>
                                <p:cTn id="8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evt="end">
                                        <p:tn val="878"/>
                                      </p:cond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4" dur="1" fill="hold">
                                    <p:stCondLst>
                                      <p:cond evt="end">
                                        <p:tn val="882"/>
                                      </p:cond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8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8" dur="1" fill="hold">
                                    <p:stCondLst>
                                      <p:cond evt="end">
                                        <p:tn val="886"/>
                                      </p:cond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9000"/>
                            </p:stCondLst>
                            <p:childTnLst>
                              <p:par>
                                <p:cTn id="8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2" dur="1" fill="hold">
                                    <p:stCondLst>
                                      <p:cond evt="end">
                                        <p:tn val="890"/>
                                      </p:cond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reatjob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533520" y="623880"/>
            <a:ext cx="807696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o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ff Ertzberger -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ty of North Carolina at Wilmingt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Clipart and Sounds Copyright Microsoft PowerPoint and Microsoft Office Gallery Online 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presentation may not be sold, or redistributed without written permission, and may only be used for non-profit educational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ing and Distributing this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ou are free to use this template in non-profit educational setting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 sure to check Jeff Ertzberger’s  digital templates web site for even more template games and great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ttp://people.uncw.edu/ertzbergerj/msgam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endshow"/>
          </p:cNvPr>
          <p:cNvSpPr/>
          <p:nvPr/>
        </p:nvSpPr>
        <p:spPr>
          <a:xfrm>
            <a:off x="7029360" y="62103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En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9:27:46Z</dcterms:created>
  <dc:creator>GX270image</dc:creator>
  <dc:description/>
  <dc:language>en-US</dc:language>
  <cp:lastModifiedBy>ddwyer</cp:lastModifiedBy>
  <dcterms:modified xsi:type="dcterms:W3CDTF">2009-12-22T17:04:26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asVP">
    <vt:r8>1</vt:r8>
  </property>
</Properties>
</file>